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534-72F3-4BE8-A81A-B332B201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7DC-5B4C-4D5B-AE9E-D42D719C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3E1-EF2A-4054-8B96-A8C2792C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A92-44D1-4797-9280-E64EAB61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8E4-C0C5-4AA9-9801-70A14E96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793-52F2-488D-9C50-6B2F446A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5CB-C6D0-4E5F-B89E-11822756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CD2-7841-4F98-A7D3-55335C04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78B-9BA2-4733-8820-CC65624A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DA0-6B3D-4580-9542-969AE9D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36B-9D1B-455E-BFEA-5EE57023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582-18E0-4C0A-91EC-49FF23E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buClr>
                <a:srgbClr val="6e8b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6720" y="6400440"/>
            <a:ext cx="4190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D01-D468-4E5B-AEC5-39E93C32B7A5}" type="slidenum"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5880" y="5892840"/>
            <a:ext cx="2819520" cy="5079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0"/>
            <a:ext cx="3809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NIVERSITY OF VIRGIN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440"/>
            <a:ext cx="1901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229B-552A-4B88-BC4F-196A9C12A9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1 Core plus FPU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vid Tarj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ausewitz: “War is very simple, but in War the simplest things become very difficult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alogy: HW Synthesis is very simple, but in HW Synthesis the simplest things become very difficult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 single core with FP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PU wired in through wishbone interfa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51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module s1_top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ys_clock_i, sys_reset_i, sys_irq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ack_i, wbm_data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cycle_o, wbm_strobe_o, wbm_we_o, wbm_addr_o, wbm_data_o, wbm_sel_o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module instanc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arc sparc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to Wishbone Master bridg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c2wbm spc2wbm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/ FPU outputs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req_pq(fpu_pcx_req_pq),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data_pa(fpu_pcx_data_pa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dt: adding FPU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fpu fpu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rdy_px2(fpu_pcx_req_pq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px2(fpu_pcx_data_pa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arst_l(cmp_a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rst_l(cmp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clk(gclk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luster_cken(cluster_cke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req_cq(cpx_fpu_request_px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data_ca(cpx_fpu_data_cx2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pre_grst_l(ctu_tst_pre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lobal_shift_enable(global_shift_en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_disable(ctu_tst_scan_dis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mode(ctu_tst_scanmod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macrotest(ctu_tst_macrotest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hort_chain(ctu_tst_short_cha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i(fpu_scan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o(fpu_scanout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Rese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rst_ctrl rs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Interrup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int_ctrl in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endmodul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ther proble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de for most modules have ifdefs for synthesis (FPGA_SYN), Sun’s somewhat custom synthesis (DEFINE_0IN) and a generic synthesis (everything els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n’s code path has some proble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ta cache and instruction cache are incomple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/`ifdef DEFINE_0I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ire [3:0] dc_we = dcache_wvld_m ? dcache_wr_rway_m : 4'b0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0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0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0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1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1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1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2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2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2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3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3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3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`els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ote those modules, using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ront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ing TSMC 0.18u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SRAM macros Cadence tutori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56x16 and 128x16 bit hard macro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ynthesis 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Instance                                              Cells   Cell Area   Net Area     Wireloa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1_top                                               109398    13906100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parc_0                                             86549    13246901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fpu_0                                               20987      605398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Back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/O: 270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rea: 21.9 mm^2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urns out the SRAM macro 128x16 has same area 256x16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6:06:44Z</dcterms:created>
  <dc:creator>dtarjan</dc:creator>
  <dc:description/>
  <dc:language>en-US</dc:language>
  <cp:lastModifiedBy>dtarjan</cp:lastModifiedBy>
  <dcterms:modified xsi:type="dcterms:W3CDTF">2006-12-13T17:55:18Z</dcterms:modified>
  <cp:revision>16</cp:revision>
  <dc:subject/>
  <dc:title>S1 Core plus FPU</dc:title>
</cp:coreProperties>
</file>